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4AD-C561-4585-9EAC-D3463E70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CF3-96A2-4D63-A9BF-C5F7F99E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33D-FFD0-40BD-A51B-89B154AA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57A-D4AB-452D-8DCF-644CFB99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08B-2407-4482-B07C-4709343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104-89CE-4678-BCE4-932DEE32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4E7-E1CE-4C00-9A31-CFCDCA2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81B-D8C8-4EA3-91BD-38C90A3A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396-460D-4168-857D-6C08C42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9D6-B31E-4DD4-ACA1-8A3F9D8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727-A58F-4555-8AFC-B8D150E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B82-AC52-42DF-B14A-EC5FF63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8137-63AD-44CB-A8CB-D566E486C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5240" y="1916280"/>
            <a:ext cx="772920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3399"/>
                </a:solidFill>
                <a:latin typeface="Arial"/>
              </a:rPr>
              <a:t>      </a:t>
            </a:r>
            <a:r>
              <a:rPr b="1" i="1" lang="en-US" sz="6600" spc="-1" strike="noStrike">
                <a:solidFill>
                  <a:srgbClr val="cc3399"/>
                </a:solidFill>
                <a:latin typeface="Arial"/>
              </a:rPr>
              <a:t>Lesson 16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3399"/>
                </a:solidFill>
                <a:latin typeface="Arial"/>
              </a:rPr>
              <a:t>The Bear Escaped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00360" y="249228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66ff"/>
                </a:solidFill>
                <a:latin typeface="Arial"/>
              </a:rPr>
              <a:t>Exerci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34920" y="1341360"/>
            <a:ext cx="91090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Don't try to _____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捉弄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 me. I know the truth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They had a good time on April F_____ Da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You should learn to take care of y_________, boys and girl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. Mr. White is a man who likes to play _____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玩笑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 on oth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7308720" y="4726080"/>
            <a:ext cx="158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jok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814920" y="476280"/>
            <a:ext cx="83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I. </a:t>
            </a:r>
            <a:r>
              <a:rPr b="1" lang="zh-CN" sz="3300" spc="-1" strike="noStrike">
                <a:solidFill>
                  <a:srgbClr val="cc00ff"/>
                </a:solidFill>
                <a:latin typeface="Arial"/>
              </a:rPr>
              <a:t>根据汉语或首字母提示，完成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773440" y="1538280"/>
            <a:ext cx="1066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tric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518520" y="2349360"/>
            <a:ext cx="114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ools'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824880" y="3195720"/>
            <a:ext cx="2137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ourselv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34920" y="627120"/>
            <a:ext cx="8893080" cy="61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man on the left is my English teacher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对划线部分提问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 ______ is your English teacher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What are they doing? Can you tell m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合并为一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n you tell me _____ _____ _____ doing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What do you mean by the word, lik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_____ the word, like, _____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. Let's play a game.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_____ _____ playing a gam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108000" y="6146640"/>
            <a:ext cx="4680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How / What   abou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891440" y="115920"/>
            <a:ext cx="157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II. </a:t>
            </a:r>
            <a:r>
              <a:rPr b="1" lang="zh-CN" sz="3300" spc="-1" strike="noStrike">
                <a:solidFill>
                  <a:srgbClr val="cc00ff"/>
                </a:solidFill>
                <a:latin typeface="Arial"/>
              </a:rPr>
              <a:t>句型转换，每空一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2484360" y="1197000"/>
            <a:ext cx="1800360" cy="0"/>
          </a:xfrm>
          <a:prstGeom prst="line">
            <a:avLst/>
          </a:prstGeom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138600" y="1746360"/>
            <a:ext cx="2648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Which   ma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3204720" y="3357720"/>
            <a:ext cx="343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what   they    a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1198800" y="5084640"/>
            <a:ext cx="5150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99"/>
                </a:solidFill>
                <a:latin typeface="Arial"/>
              </a:rPr>
              <a:t>does                         mea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6"/>
          <p:cNvSpPr/>
          <p:nvPr/>
        </p:nvSpPr>
        <p:spPr>
          <a:xfrm>
            <a:off x="324000" y="1100160"/>
            <a:ext cx="85690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我是从收音机里听到的那首歌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 heard the song _____ _____ _____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小偷跳出窗户逃走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thief _____ _____ _____ the window and ran awa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有一位年轻人在门口等你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_____ _____ a young man ______ _____ you at the gat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3465720" y="404640"/>
            <a:ext cx="106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III. </a:t>
            </a:r>
            <a:r>
              <a:rPr b="1" lang="zh-CN" sz="3300" spc="-1" strike="noStrike">
                <a:solidFill>
                  <a:srgbClr val="cc00ff"/>
                </a:solidFill>
                <a:latin typeface="Arial"/>
              </a:rPr>
              <a:t>根据所给汉语提示，翻译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4008240" y="1866960"/>
            <a:ext cx="371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99"/>
                </a:solidFill>
                <a:latin typeface="Arial"/>
              </a:rPr>
              <a:t>on      the    rad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2415600" y="3235320"/>
            <a:ext cx="346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99"/>
                </a:solidFill>
                <a:latin typeface="Arial"/>
              </a:rPr>
              <a:t>got      out      o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330120" y="5300640"/>
            <a:ext cx="8345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99"/>
                </a:solidFill>
                <a:latin typeface="Arial"/>
              </a:rPr>
              <a:t>There     is                          waiting   f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47640" y="981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ff"/>
                </a:solidFill>
                <a:latin typeface="Arial"/>
              </a:rPr>
              <a:t>Home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2637000"/>
            <a:ext cx="84247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 you know any other interesting foreign festivals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rite them down, and share with your partner next class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39640" y="451008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cap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8160" y="54936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I. Learning aim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4920" y="1403280"/>
            <a:ext cx="9036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ds and expressions: escape, fierce, protect, f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60" y="3213000"/>
            <a:ext cx="85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II. Learning important and difficu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point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906560" y="878040"/>
            <a:ext cx="511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9933ff"/>
                </a:solidFill>
                <a:latin typeface="Arial"/>
              </a:rPr>
              <a:t>New Word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187280" y="2637000"/>
            <a:ext cx="6121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ape                 fie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ect                   f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619280" y="1258920"/>
            <a:ext cx="583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9900ff"/>
                </a:solidFill>
                <a:latin typeface="Arial"/>
              </a:rPr>
              <a:t>Think About It 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95280" y="2421000"/>
            <a:ext cx="835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★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When is April Fools’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★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What do people do on that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★ 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Have you ever played a trick on a friend? What di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340000" y="538200"/>
            <a:ext cx="4680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000000"/>
                </a:solidFill>
                <a:latin typeface="Arial"/>
              </a:rPr>
              <a:t>Let’s Do It 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24000" y="2421000"/>
            <a:ext cx="8424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◆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What do you think of the idea of April Fools’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◆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Have you ever played a trick on someone? Share a trick with you partner.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◆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What do you think “ white lie” me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01760" y="1533600"/>
            <a:ext cx="81864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lk with a partner about these quest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24000" y="2205000"/>
            <a:ext cx="633744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3366ff"/>
                </a:solidFill>
                <a:latin typeface="Arial"/>
              </a:rPr>
              <a:t>Language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i="1" lang="en-US" sz="7600" spc="-1" strike="noStrike">
                <a:solidFill>
                  <a:srgbClr val="3366ff"/>
                </a:solidFill>
                <a:latin typeface="Arial"/>
              </a:rPr>
              <a:t>Point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The bear at the zoo woke up! He escaped!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动物园的熊醒来了，它逃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scape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意为“逃走；逃脱”，含有“脱离”的意思，因此通常不与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way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f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等副词连用。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scape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表示从具体的某一场所逃走或表示液体或气体等漏出，是不及物动词，常与介词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om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连用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escaped from the burning hous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们从着火的房子里逃了出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What will happen if he comes to our neighbourhood?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如果他来到我们小区，将会发生什么事情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为“如果”，引导条件状语从句时，主句用一般将来时，从句要用一般现在时表示将来，即“主将从现”。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e will go to the park if it doesn’t rain tomorrow.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如果明天不下雨，我们就去公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3. Wake up, Mr. Bear! 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醒醒，熊先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ake up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唤醒，弄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wakes me up at six every morning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每天早上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钟叫醒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aining when I woke up this morning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早上我醒来时天在下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ake vi.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醒来，弄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he woken up yet?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醒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wake me up at five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钟叫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19:01Z</dcterms:created>
  <dc:creator> </dc:creator>
  <dc:description> </dc:description>
  <dc:language>en-US</dc:language>
  <cp:lastModifiedBy>Administrator</cp:lastModifiedBy>
  <dcterms:modified xsi:type="dcterms:W3CDTF">2019-01-02T02:19:2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